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FE94-5F7F-4EAD-940A-9A9B2F863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450D-EC0D-416E-BAD1-E5AAE80AD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5438-1F91-462C-99F1-BC2DDDCA7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2047-1E9B-455B-92FC-22BA52423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B52B-41BC-4E80-895E-73855138B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3EC5-BBCB-4DF7-AD79-DBA516502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0F85-D28F-4A4B-98F1-E7AE9374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0A71-08B5-44B4-96C2-5BB82A82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F42A-255E-4D6A-822D-3D3403AA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AEEB-98BC-42B0-BBC6-DBCCC9A75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DC51-B000-4F00-9568-B694831F2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9519-3FEF-43F0-AAC0-A886769B0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65052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96D6A-90F5-4E0E-AA2C-68F381926341}" type="datetime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4443120" y="9040680"/>
            <a:ext cx="4118040" cy="5191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ndy Stern | $DATUM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931968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AA01C-A74A-4C7E-A62F-3D0747B56EF4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1" marL="74304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2" marL="1143000" indent="-228600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3" marL="1600200" indent="-228600" algn="ctr">
              <a:buClr>
                <a:srgbClr val="414141"/>
              </a:buClr>
              <a:buFont typeface="Gill Sans Ligh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4" marL="2057400" indent="-228600" algn="ctr">
              <a:buClr>
                <a:srgbClr val="414141"/>
              </a:buClr>
              <a:buFont typeface="Gill Sans Ligh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5" marL="2057400" indent="-228600">
              <a:spcBef>
                <a:spcPts val="950"/>
              </a:spcBef>
              <a:buClr>
                <a:srgbClr val="414141"/>
              </a:buClr>
              <a:buFont typeface="Gill Sans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6" marL="2057400" indent="-228600">
              <a:spcBef>
                <a:spcPts val="950"/>
              </a:spcBef>
              <a:buClr>
                <a:srgbClr val="414141"/>
              </a:buClr>
              <a:buFont typeface="Gill Sans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AutoShape 1"/>
          <p:cNvSpPr/>
          <p:nvPr/>
        </p:nvSpPr>
        <p:spPr>
          <a:xfrm>
            <a:off x="453960" y="339840"/>
            <a:ext cx="12096720" cy="792000"/>
          </a:xfrm>
          <a:prstGeom prst="roundRect">
            <a:avLst>
              <a:gd name="adj" fmla="val 15000"/>
            </a:avLst>
          </a:prstGeom>
          <a:solidFill>
            <a:srgbClr val="f970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Calibri"/>
              </a:rPr>
              <a:t>Zielkreuz [Projekt]</a:t>
            </a:r>
            <a:endParaRPr b="0" lang="en-US" sz="28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78" name="Diagramm 1" descr=""/>
          <p:cNvPicPr/>
          <p:nvPr/>
        </p:nvPicPr>
        <p:blipFill>
          <a:blip r:embed="rId1"/>
          <a:stretch/>
        </p:blipFill>
        <p:spPr>
          <a:xfrm>
            <a:off x="701640" y="1773360"/>
            <a:ext cx="11093400" cy="7072200"/>
          </a:xfrm>
          <a:prstGeom prst="rect">
            <a:avLst/>
          </a:prstGeom>
          <a:ln w="0">
            <a:noFill/>
          </a:ln>
        </p:spPr>
      </p:pic>
      <p:sp>
        <p:nvSpPr>
          <p:cNvPr id="79" name="Fußzeilenplatzhalter 2"/>
          <p:cNvSpPr/>
          <p:nvPr/>
        </p:nvSpPr>
        <p:spPr>
          <a:xfrm>
            <a:off x="453960" y="9124920"/>
            <a:ext cx="124570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14141"/>
                </a:solidFill>
                <a:latin typeface="Gill Sans Light"/>
              </a:rPr>
              <a:t>Andy Stern | $DATUM$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Andy Stern</cp:lastModifiedBy>
  <dcterms:modified xsi:type="dcterms:W3CDTF">2016-08-20T17:14:03Z</dcterms:modified>
  <cp:revision>33</cp:revision>
  <dc:subject/>
  <dc:title>Zielkreuz</dc:title>
</cp:coreProperties>
</file>